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wmf" ContentType="image/x-wmf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wmf" ContentType="image/x-wmf"/>
  <Override PartName="/ppt/media/image12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B8850-22E1-4843-862C-2B334DB06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8280" y="23400"/>
            <a:ext cx="709920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36240" y="1981080"/>
            <a:ext cx="8350200" cy="21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6240" y="4296240"/>
            <a:ext cx="8350200" cy="21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F8936-4CA9-44B5-8DA2-7DE8DD44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8280" y="23400"/>
            <a:ext cx="709920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36240" y="1981080"/>
            <a:ext cx="4074840" cy="21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15200" y="1981080"/>
            <a:ext cx="4074840" cy="21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36240" y="4296240"/>
            <a:ext cx="4074840" cy="21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15200" y="4296240"/>
            <a:ext cx="4074840" cy="21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D054C-DA4F-43F2-9D3B-F536957DA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68280" y="23400"/>
            <a:ext cx="709920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36240" y="1981080"/>
            <a:ext cx="2688480" cy="21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59360" y="1981080"/>
            <a:ext cx="2688480" cy="21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82840" y="1981080"/>
            <a:ext cx="2688480" cy="21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36240" y="4296240"/>
            <a:ext cx="2688480" cy="21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59360" y="4296240"/>
            <a:ext cx="2688480" cy="21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82840" y="4296240"/>
            <a:ext cx="2688480" cy="21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F5F3B-0258-47AA-81F6-C1AA6C237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0363-F3B1-4261-82C1-BD12871BA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8280" y="23400"/>
            <a:ext cx="709920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36240" y="1981080"/>
            <a:ext cx="83502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2F59-1AF3-4E83-A3CE-81971072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8280" y="23400"/>
            <a:ext cx="709920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6240" y="1981080"/>
            <a:ext cx="835020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F567-E8B3-403C-84A1-6CDCEEE6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8280" y="23400"/>
            <a:ext cx="709920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6240" y="1981080"/>
            <a:ext cx="407484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15200" y="1981080"/>
            <a:ext cx="407484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00A3-565E-4BED-AFC8-085625DB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8280" y="23400"/>
            <a:ext cx="709920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94A8-4C83-40C2-9ADA-0DEC8272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68280" y="23400"/>
            <a:ext cx="7099200" cy="34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0519-7A8A-419F-933E-925F614F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8280" y="23400"/>
            <a:ext cx="709920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36240" y="1981080"/>
            <a:ext cx="4074840" cy="21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15200" y="1981080"/>
            <a:ext cx="407484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36240" y="4296240"/>
            <a:ext cx="4074840" cy="21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6FD3-E5DB-471D-AF25-46286705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280" y="23400"/>
            <a:ext cx="709920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36240" y="1981080"/>
            <a:ext cx="83502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EAC47-BDB5-4217-AE12-D0C48D19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8280" y="23400"/>
            <a:ext cx="709920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36240" y="1981080"/>
            <a:ext cx="407484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15200" y="1981080"/>
            <a:ext cx="4074840" cy="21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15200" y="4296240"/>
            <a:ext cx="4074840" cy="21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C9AB-E491-4110-AC05-612BB36C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68280" y="23400"/>
            <a:ext cx="709920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36240" y="1981080"/>
            <a:ext cx="4074840" cy="21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15200" y="1981080"/>
            <a:ext cx="4074840" cy="21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36240" y="4296240"/>
            <a:ext cx="8350200" cy="21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3997-EFF3-4F71-8270-4D623E84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8280" y="23400"/>
            <a:ext cx="709920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36240" y="1981080"/>
            <a:ext cx="8350200" cy="21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6240" y="4296240"/>
            <a:ext cx="8350200" cy="21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4D18-1ACE-4F63-A2A1-3F945992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68280" y="23400"/>
            <a:ext cx="709920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36240" y="1981080"/>
            <a:ext cx="4074840" cy="21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15200" y="1981080"/>
            <a:ext cx="4074840" cy="21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36240" y="4296240"/>
            <a:ext cx="4074840" cy="21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15200" y="4296240"/>
            <a:ext cx="4074840" cy="21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7896-B99D-4128-8283-1B361AE54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68280" y="23400"/>
            <a:ext cx="709920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36240" y="1981080"/>
            <a:ext cx="2688480" cy="21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59360" y="1981080"/>
            <a:ext cx="2688480" cy="21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82840" y="1981080"/>
            <a:ext cx="2688480" cy="21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36240" y="4296240"/>
            <a:ext cx="2688480" cy="21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159360" y="4296240"/>
            <a:ext cx="2688480" cy="21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82840" y="4296240"/>
            <a:ext cx="2688480" cy="21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ADE2-82F7-401E-943D-C4CD6A99F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280" y="23400"/>
            <a:ext cx="709920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36240" y="1981080"/>
            <a:ext cx="835020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5C3E7-CCE3-4A97-A718-459FA82E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8280" y="23400"/>
            <a:ext cx="709920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6240" y="1981080"/>
            <a:ext cx="407484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15200" y="1981080"/>
            <a:ext cx="407484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90094-25C4-4960-B98B-13737988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8280" y="23400"/>
            <a:ext cx="709920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BC3E4-E7CA-4B0A-9BB7-22E51AA9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68280" y="23400"/>
            <a:ext cx="7099200" cy="34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872A4-AE3D-447E-BD74-5FD16B23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8280" y="23400"/>
            <a:ext cx="709920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36240" y="1981080"/>
            <a:ext cx="4074840" cy="21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5200" y="1981080"/>
            <a:ext cx="407484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36240" y="4296240"/>
            <a:ext cx="4074840" cy="21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428A9-2A1A-47B0-A6D9-8AA6F112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8280" y="23400"/>
            <a:ext cx="709920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6240" y="1981080"/>
            <a:ext cx="407484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15200" y="1981080"/>
            <a:ext cx="4074840" cy="21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15200" y="4296240"/>
            <a:ext cx="4074840" cy="21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42A71-42A8-4A36-8AB8-B7007A33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280" y="23400"/>
            <a:ext cx="709920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36240" y="1981080"/>
            <a:ext cx="4074840" cy="21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5200" y="1981080"/>
            <a:ext cx="4074840" cy="21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36240" y="4296240"/>
            <a:ext cx="8350200" cy="21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D7888-76A7-4E6E-99A0-2C47B2CD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257800" y="3448080"/>
            <a:ext cx="4070520" cy="3454200"/>
            <a:chOff x="5257800" y="3448080"/>
            <a:chExt cx="4070520" cy="3454200"/>
          </a:xfrm>
        </p:grpSpPr>
        <p:sp>
          <p:nvSpPr>
            <p:cNvPr id="1" name=""/>
            <p:cNvSpPr/>
            <p:nvPr/>
          </p:nvSpPr>
          <p:spPr>
            <a:xfrm>
              <a:off x="8032680" y="3448080"/>
              <a:ext cx="374760" cy="374760"/>
            </a:xfrm>
            <a:prstGeom prst="ellips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429680" y="3505320"/>
              <a:ext cx="374400" cy="374400"/>
            </a:xfrm>
            <a:prstGeom prst="ellips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902280" y="3676680"/>
              <a:ext cx="374760" cy="374760"/>
            </a:xfrm>
            <a:prstGeom prst="ellips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330960" y="3987720"/>
              <a:ext cx="374760" cy="374760"/>
            </a:xfrm>
            <a:prstGeom prst="ellips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877080" y="4152960"/>
              <a:ext cx="374760" cy="374760"/>
            </a:xfrm>
            <a:prstGeom prst="ellips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35800" y="4108320"/>
              <a:ext cx="374760" cy="374760"/>
            </a:xfrm>
            <a:prstGeom prst="ellips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975440" y="4013280"/>
              <a:ext cx="374760" cy="374400"/>
            </a:xfrm>
            <a:prstGeom prst="ellips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477280" y="3924360"/>
              <a:ext cx="374760" cy="374760"/>
            </a:xfrm>
            <a:prstGeom prst="ellips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610480" y="3460680"/>
              <a:ext cx="374760" cy="374760"/>
            </a:xfrm>
            <a:prstGeom prst="ellips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953560" y="4064040"/>
              <a:ext cx="374760" cy="374760"/>
            </a:xfrm>
            <a:prstGeom prst="ellips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74200" y="4781520"/>
              <a:ext cx="374400" cy="374760"/>
            </a:xfrm>
            <a:prstGeom prst="ellips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07400" y="5219640"/>
              <a:ext cx="374760" cy="374760"/>
            </a:xfrm>
            <a:prstGeom prst="ellips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81880" y="4381560"/>
              <a:ext cx="374760" cy="374760"/>
            </a:xfrm>
            <a:prstGeom prst="ellips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51760" y="4788000"/>
              <a:ext cx="374760" cy="374400"/>
            </a:xfrm>
            <a:prstGeom prst="ellips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299440" y="5283360"/>
              <a:ext cx="374760" cy="374400"/>
            </a:xfrm>
            <a:prstGeom prst="ellips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36040" y="5765760"/>
              <a:ext cx="374760" cy="374760"/>
            </a:xfrm>
            <a:prstGeom prst="ellips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50160" y="6229440"/>
              <a:ext cx="374760" cy="374400"/>
            </a:xfrm>
            <a:prstGeom prst="ellips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248680" y="6470640"/>
              <a:ext cx="374760" cy="374760"/>
            </a:xfrm>
            <a:prstGeom prst="ellips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001000" y="6026040"/>
              <a:ext cx="374760" cy="374760"/>
            </a:xfrm>
            <a:prstGeom prst="ellips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937640" y="5581800"/>
              <a:ext cx="374400" cy="374400"/>
            </a:xfrm>
            <a:prstGeom prst="ellips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651800" y="5130720"/>
              <a:ext cx="374760" cy="374760"/>
            </a:xfrm>
            <a:prstGeom prst="ellips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188120" y="5111640"/>
              <a:ext cx="374760" cy="374760"/>
            </a:xfrm>
            <a:prstGeom prst="ellips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480440" y="5772240"/>
              <a:ext cx="374400" cy="374400"/>
            </a:xfrm>
            <a:prstGeom prst="ellips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7321680" y="6222960"/>
              <a:ext cx="374400" cy="374760"/>
            </a:xfrm>
            <a:prstGeom prst="ellips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7010280" y="5587920"/>
              <a:ext cx="374760" cy="374760"/>
            </a:xfrm>
            <a:prstGeom prst="ellips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6711840" y="5143680"/>
              <a:ext cx="374760" cy="374400"/>
            </a:xfrm>
            <a:prstGeom prst="ellips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6432480" y="4514760"/>
              <a:ext cx="374760" cy="374760"/>
            </a:xfrm>
            <a:prstGeom prst="ellips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11920" y="4381560"/>
              <a:ext cx="374760" cy="374760"/>
            </a:xfrm>
            <a:prstGeom prst="ellips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6242040" y="4959360"/>
              <a:ext cx="374760" cy="374760"/>
            </a:xfrm>
            <a:prstGeom prst="ellips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5683320" y="4857840"/>
              <a:ext cx="374760" cy="374400"/>
            </a:xfrm>
            <a:prstGeom prst="ellips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924520" y="5397480"/>
              <a:ext cx="374760" cy="374760"/>
            </a:xfrm>
            <a:prstGeom prst="ellips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403960" y="5346720"/>
              <a:ext cx="374400" cy="374760"/>
            </a:xfrm>
            <a:prstGeom prst="ellips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527880" y="5587920"/>
              <a:ext cx="374400" cy="374760"/>
            </a:xfrm>
            <a:prstGeom prst="ellips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711840" y="6064200"/>
              <a:ext cx="374760" cy="374760"/>
            </a:xfrm>
            <a:prstGeom prst="ellips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6419880" y="6527880"/>
              <a:ext cx="374760" cy="374400"/>
            </a:xfrm>
            <a:prstGeom prst="ellips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6159600" y="5861160"/>
              <a:ext cx="374400" cy="374400"/>
            </a:xfrm>
            <a:prstGeom prst="ellips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791320" y="6197760"/>
              <a:ext cx="374400" cy="374400"/>
            </a:xfrm>
            <a:prstGeom prst="ellips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270400" y="5842080"/>
              <a:ext cx="374760" cy="374400"/>
            </a:xfrm>
            <a:prstGeom prst="ellips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257800" y="6388200"/>
              <a:ext cx="374760" cy="374400"/>
            </a:xfrm>
            <a:prstGeom prst="ellips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7531200" y="4610160"/>
              <a:ext cx="374400" cy="374760"/>
            </a:xfrm>
            <a:prstGeom prst="ellips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004160" y="4654440"/>
              <a:ext cx="374400" cy="374760"/>
            </a:xfrm>
            <a:prstGeom prst="ellips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2" name=""/>
          <p:cNvSpPr/>
          <p:nvPr/>
        </p:nvSpPr>
        <p:spPr>
          <a:xfrm>
            <a:off x="1440" y="6638760"/>
            <a:ext cx="912996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1"/>
          </p:nvPr>
        </p:nvSpPr>
        <p:spPr>
          <a:xfrm>
            <a:off x="7795800" y="662904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3DB5-3D91-4ACF-8CDD-4A473B4AAE7D}" type="slidenum">
              <a:rPr b="1" lang="en-US" sz="10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888888"/>
                </a:solidFill>
                <a:latin typeface="Times New Roman"/>
              </a:rPr>
              <a:t> /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8915400" cy="981000"/>
          </a:xfrm>
          <a:prstGeom prst="rect">
            <a:avLst/>
          </a:prstGeom>
          <a:solidFill>
            <a:srgbClr val="96a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368280" y="23400"/>
            <a:ext cx="709920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028000" y="0"/>
            <a:ext cx="1128600" cy="98100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336240" y="1981080"/>
            <a:ext cx="835020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lnSpc>
                <a:spcPct val="90000"/>
              </a:lnSpc>
              <a:spcBef>
                <a:spcPts val="624"/>
              </a:spcBef>
              <a:buClr>
                <a:srgbClr val="d0d5de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88888"/>
                </a:solidFill>
                <a:latin typeface="Arial"/>
              </a:rPr>
              <a:t>Click to edit the outline text format</a:t>
            </a: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  <a:p>
            <a:pPr lvl="1" marL="762120" indent="-190440">
              <a:lnSpc>
                <a:spcPct val="90000"/>
              </a:lnSpc>
              <a:spcBef>
                <a:spcPts val="624"/>
              </a:spcBef>
              <a:buClr>
                <a:srgbClr val="d0d5d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88888"/>
                </a:solidFill>
                <a:latin typeface="Arial"/>
              </a:rPr>
              <a:t>Second Outline Level</a:t>
            </a: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  <a:p>
            <a:pPr lvl="2" marL="1523880" indent="-187200">
              <a:lnSpc>
                <a:spcPct val="90000"/>
              </a:lnSpc>
              <a:spcBef>
                <a:spcPts val="624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88888"/>
                </a:solidFill>
                <a:latin typeface="Arial"/>
              </a:rPr>
              <a:t>Third Outline Level</a:t>
            </a: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  <a:p>
            <a:pPr lvl="3" marL="2100240" indent="-192240">
              <a:lnSpc>
                <a:spcPct val="90000"/>
              </a:lnSpc>
              <a:spcBef>
                <a:spcPts val="624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88888"/>
                </a:solidFill>
                <a:latin typeface="Arial"/>
              </a:rPr>
              <a:t>Fourth Outline Level</a:t>
            </a: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  <a:p>
            <a:pPr lvl="4" marL="2666880" indent="-190440">
              <a:lnSpc>
                <a:spcPct val="90000"/>
              </a:lnSpc>
              <a:spcBef>
                <a:spcPts val="624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88888"/>
                </a:solidFill>
                <a:latin typeface="Arial"/>
              </a:rPr>
              <a:t>Fifth Outline Level</a:t>
            </a: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  <a:p>
            <a:pPr lvl="5" marL="2666880" indent="-190440">
              <a:lnSpc>
                <a:spcPct val="90000"/>
              </a:lnSpc>
              <a:spcBef>
                <a:spcPts val="624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88888"/>
                </a:solidFill>
                <a:latin typeface="Arial"/>
              </a:rPr>
              <a:t>Sixth Outline Level</a:t>
            </a: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  <a:p>
            <a:pPr lvl="6" marL="2666880" indent="-190440">
              <a:lnSpc>
                <a:spcPct val="90000"/>
              </a:lnSpc>
              <a:spcBef>
                <a:spcPts val="624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88888"/>
                </a:solidFill>
                <a:latin typeface="Arial"/>
              </a:rPr>
              <a:t>Seventh Outline Level</a:t>
            </a:r>
            <a:endParaRPr b="1" lang="en-US" sz="2500" spc="-1" strike="noStrike">
              <a:solidFill>
                <a:srgbClr val="888888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2"/>
          </p:nvPr>
        </p:nvSpPr>
        <p:spPr>
          <a:xfrm>
            <a:off x="139320" y="6400440"/>
            <a:ext cx="2365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333333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 Narrow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2590920" y="6362280"/>
            <a:ext cx="63720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aaaaa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aaaaa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6638760"/>
            <a:ext cx="868680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028000" y="0"/>
            <a:ext cx="1116000" cy="98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2514600"/>
            <a:ext cx="3429000" cy="3352680"/>
          </a:xfrm>
          <a:prstGeom prst="rect">
            <a:avLst/>
          </a:prstGeom>
          <a:solidFill>
            <a:srgbClr val="d0d5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266840" y="1538280"/>
            <a:ext cx="1920960" cy="804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429000" y="0"/>
            <a:ext cx="5715000" cy="6858000"/>
          </a:xfrm>
          <a:prstGeom prst="rect">
            <a:avLst/>
          </a:prstGeom>
          <a:solidFill>
            <a:srgbClr val="96a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29000" y="5867280"/>
            <a:ext cx="5715000" cy="990720"/>
          </a:xfrm>
          <a:prstGeom prst="rect">
            <a:avLst/>
          </a:prstGeom>
          <a:solidFill>
            <a:srgbClr val="698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867280"/>
            <a:ext cx="3429000" cy="990720"/>
          </a:xfrm>
          <a:prstGeom prst="rect">
            <a:avLst/>
          </a:prstGeom>
          <a:solidFill>
            <a:srgbClr val="414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81280" y="1676160"/>
            <a:ext cx="53373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685800" y="7010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5"/>
          </p:nvPr>
        </p:nvSpPr>
        <p:spPr>
          <a:xfrm>
            <a:off x="3124080" y="7010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6"/>
          </p:nvPr>
        </p:nvSpPr>
        <p:spPr>
          <a:xfrm>
            <a:off x="6553080" y="7010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546A-F4C9-46E4-A93B-739828E32A0C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1" lang="en-US" sz="17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55555"/>
                </a:solidFill>
                <a:latin typeface="Arial Narrow"/>
              </a:rPr>
              <a:t>Second Outline Level</a:t>
            </a:r>
            <a:endParaRPr b="0" lang="en-US" sz="2300" spc="-1" strike="noStrike">
              <a:solidFill>
                <a:srgbClr val="555555"/>
              </a:solidFill>
              <a:latin typeface="Arial Narrow"/>
            </a:endParaRPr>
          </a:p>
          <a:p>
            <a:pPr lvl="2" marL="914400" indent="422280" algn="ctr">
              <a:spcBef>
                <a:spcPts val="499"/>
              </a:spcBef>
              <a:buClr>
                <a:srgbClr val="cccc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3" marL="1371600" indent="536400" algn="ctr">
              <a:spcBef>
                <a:spcPts val="451"/>
              </a:spcBef>
              <a:buClr>
                <a:srgbClr val="cccc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  <a:p>
            <a:pPr lvl="4" marL="1828800" indent="647640" algn="ctr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  <a:p>
            <a:pPr lvl="5" marL="1828800" indent="647640"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  <a:p>
            <a:pPr lvl="6" marL="1828800" indent="647640"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pn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81280" y="1676520"/>
            <a:ext cx="5337360" cy="1681200"/>
          </a:xfrm>
          <a:prstGeom prst="rect">
            <a:avLst/>
          </a:prstGeom>
          <a:solidFill>
            <a:srgbClr val="96a2b4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PUESTOS DE VENTA EN EL ACT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581280" y="4797360"/>
            <a:ext cx="53373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333333"/>
                </a:solidFill>
                <a:latin typeface="Arial"/>
              </a:rPr>
              <a:t>Arquitectura Hardware</a:t>
            </a:r>
            <a:endParaRPr b="1" lang="en-US" sz="1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81280" y="5943600"/>
            <a:ext cx="41594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edede"/>
                </a:solidFill>
                <a:latin typeface="Arial Narrow"/>
              </a:rPr>
              <a:t>Carlos D. Ramos Hierrezuelo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edede"/>
                </a:solidFill>
                <a:latin typeface="Arial Narrow"/>
              </a:rPr>
              <a:t>Jefe de Proyecto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320" y="5915160"/>
            <a:ext cx="3200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d0d5de"/>
                </a:solidFill>
                <a:latin typeface="Arial"/>
              </a:rPr>
              <a:t>Oficinas de Metro - Madrid,</a:t>
            </a:r>
            <a:endParaRPr b="0" lang="en-US" sz="13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0d5de"/>
                </a:solidFill>
                <a:latin typeface="Arial"/>
              </a:rPr>
              <a:t>25 de Marzo de 2010</a:t>
            </a:r>
            <a:endParaRPr b="0" lang="en-US" sz="13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81280" y="5457960"/>
            <a:ext cx="5334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6e97"/>
                </a:solidFill>
                <a:latin typeface="Arial"/>
              </a:rPr>
              <a:t>[Personalización, Venta, Recarga y Consulta de Tarjetas Sube-T </a:t>
            </a:r>
            <a:r>
              <a:rPr b="0" lang="en-US" sz="1100" spc="-1" strike="noStrike">
                <a:solidFill>
                  <a:srgbClr val="596e97"/>
                </a:solidFill>
                <a:latin typeface="Arial"/>
              </a:rPr>
              <a:t>/ V.1.0 </a:t>
            </a:r>
            <a:r>
              <a:rPr b="1" lang="en-US" sz="1100" spc="-1" strike="noStrike">
                <a:solidFill>
                  <a:srgbClr val="596e97"/>
                </a:solidFill>
                <a:latin typeface="Arial"/>
              </a:rPr>
              <a:t>]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2492280"/>
            <a:ext cx="3419640" cy="3411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812000" y="5923080"/>
            <a:ext cx="1262160" cy="89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86CE-F1C7-44C6-93FB-7C1F12AB6D4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36520" y="476280"/>
            <a:ext cx="62438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ARQUITECTURA HARDWA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1079640" cy="981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42920" y="193680"/>
            <a:ext cx="720720" cy="5713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368360" y="1952640"/>
            <a:ext cx="636480" cy="1044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934920" y="3537000"/>
            <a:ext cx="885960" cy="1116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040360" y="2563920"/>
            <a:ext cx="720720" cy="639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2484360" y="1089000"/>
            <a:ext cx="1333440" cy="1584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2664000" y="3429000"/>
            <a:ext cx="1083960" cy="1549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751280" y="5013360"/>
            <a:ext cx="1260720" cy="826920"/>
          </a:xfrm>
          <a:prstGeom prst="flowChartAlternateProcess">
            <a:avLst/>
          </a:prstGeom>
          <a:solidFill>
            <a:srgbClr val="d0bb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33"/>
                </a:solidFill>
                <a:latin typeface="Palatino Linotype"/>
              </a:rPr>
              <a:t>IMPRESORA LÁSER (por definir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680000" y="3967200"/>
            <a:ext cx="1403280" cy="297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8"/>
          <a:stretch/>
        </p:blipFill>
        <p:spPr>
          <a:xfrm>
            <a:off x="3311640" y="5861160"/>
            <a:ext cx="485640" cy="485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9"/>
          <a:stretch/>
        </p:blipFill>
        <p:spPr>
          <a:xfrm>
            <a:off x="2195640" y="5789520"/>
            <a:ext cx="952200" cy="590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 flipH="1" flipV="1">
            <a:off x="2087280" y="3068640"/>
            <a:ext cx="43164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979280" y="4113360"/>
            <a:ext cx="53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527280" y="512136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879640" y="512136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3168720" y="2742840"/>
            <a:ext cx="0" cy="53964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887640" y="4111560"/>
            <a:ext cx="54000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398920" y="3319200"/>
            <a:ext cx="0" cy="53964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398920" y="4363920"/>
            <a:ext cx="0" cy="5400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925720"/>
            <a:ext cx="574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33"/>
                </a:solidFill>
                <a:latin typeface="Palatino Linotype"/>
              </a:rPr>
              <a:t>VÍDEO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78160" y="2959200"/>
            <a:ext cx="39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33"/>
                </a:solidFill>
                <a:latin typeface="Palatino Linotype"/>
              </a:rPr>
              <a:t>USB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89080" y="3825720"/>
            <a:ext cx="39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33"/>
                </a:solidFill>
                <a:latin typeface="Palatino Linotype"/>
              </a:rPr>
              <a:t>USB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24360" y="5265720"/>
            <a:ext cx="39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33"/>
                </a:solidFill>
                <a:latin typeface="Palatino Linotype"/>
              </a:rPr>
              <a:t>USB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16360" y="3868560"/>
            <a:ext cx="647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333333"/>
                </a:solidFill>
                <a:latin typeface="Palatino Linotype"/>
              </a:rPr>
              <a:t>ETHERNET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Cloud"/>
          <p:cNvSpPr/>
          <p:nvPr/>
        </p:nvSpPr>
        <p:spPr>
          <a:xfrm>
            <a:off x="6981840" y="3645000"/>
            <a:ext cx="1442880" cy="966600"/>
          </a:xfrm>
          <a:prstGeom prst="pie">
            <a:avLst/>
          </a:prstGeom>
          <a:solidFill>
            <a:srgbClr val="d0d5de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33"/>
                </a:solidFill>
                <a:latin typeface="Arial Narrow"/>
              </a:rPr>
              <a:t>RED METRO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6264000" y="4140360"/>
            <a:ext cx="53964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0"/>
          <a:stretch/>
        </p:blipFill>
        <p:spPr>
          <a:xfrm>
            <a:off x="7056360" y="2565360"/>
            <a:ext cx="1171800" cy="4478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632720" y="3033720"/>
            <a:ext cx="0" cy="503280"/>
          </a:xfrm>
          <a:prstGeom prst="line">
            <a:avLst/>
          </a:prstGeom>
          <a:ln w="3816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64360" y="3825720"/>
            <a:ext cx="53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33"/>
                </a:solidFill>
                <a:latin typeface="Palatino Linotype"/>
              </a:rPr>
              <a:t>TCP/IP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32720" y="4797360"/>
            <a:ext cx="0" cy="503280"/>
          </a:xfrm>
          <a:prstGeom prst="line">
            <a:avLst/>
          </a:prstGeom>
          <a:ln w="3816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1"/>
          <a:stretch/>
        </p:blipFill>
        <p:spPr>
          <a:xfrm>
            <a:off x="6985080" y="5408640"/>
            <a:ext cx="1276200" cy="676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889440" y="1484280"/>
            <a:ext cx="900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33"/>
                </a:solidFill>
                <a:latin typeface="Palatino Linotype"/>
              </a:rPr>
              <a:t>MONITOR TÁCTIL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9080" y="1407960"/>
            <a:ext cx="1224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33"/>
                </a:solidFill>
                <a:latin typeface="Palatino Linotype"/>
              </a:rPr>
              <a:t>CÁMARA MOTORIZADA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8720" y="4797360"/>
            <a:ext cx="104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33"/>
                </a:solidFill>
                <a:latin typeface="Palatino Linotype"/>
              </a:rPr>
              <a:t>IMPRESORA TSC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61080" y="223848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33"/>
                </a:solidFill>
                <a:latin typeface="Palatino Linotype"/>
              </a:rPr>
              <a:t>LECTOR TSC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08360" y="4254480"/>
            <a:ext cx="82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33"/>
                </a:solidFill>
                <a:latin typeface="Palatino Linotype"/>
              </a:rPr>
              <a:t>SWITCH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343640" y="2241720"/>
            <a:ext cx="54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33"/>
                </a:solidFill>
                <a:latin typeface="Palatino Linotype"/>
              </a:rPr>
              <a:t>HSM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85080" y="6200640"/>
            <a:ext cx="133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33"/>
                </a:solidFill>
                <a:latin typeface="Palatino Linotype"/>
              </a:rPr>
              <a:t>S. CONTABLE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140E6-C42C-43EA-A470-E5BBAFEAF6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36520" y="476280"/>
            <a:ext cx="62438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IMPRESORA DE TARJETAS SIN CONTACT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1079640" cy="981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42920" y="193680"/>
            <a:ext cx="720720" cy="5713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39640" y="2033280"/>
            <a:ext cx="5761080" cy="27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596e97"/>
                </a:solidFill>
                <a:latin typeface="Palatino Linotype"/>
              </a:rPr>
              <a:t>Impresión extremo a extremo en una o dos cara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596e97"/>
                </a:solidFill>
                <a:latin typeface="Palatino Linotype"/>
              </a:rPr>
              <a:t>Impresión color de 190 tarjetas por hora a una ca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596e97"/>
                </a:solidFill>
                <a:latin typeface="Palatino Linotype"/>
              </a:rPr>
              <a:t>Impresión monocroma de 1000 tarjetas por hora a una ca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596e97"/>
                </a:solidFill>
                <a:latin typeface="Palatino Linotype"/>
              </a:rPr>
              <a:t>Resolución de 300 dp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596e97"/>
                </a:solidFill>
                <a:latin typeface="Palatino Linotype"/>
              </a:rPr>
              <a:t>Conexión de alta velocidad USB 2.0 y Ethernet 10/100 Base-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596e97"/>
                </a:solidFill>
                <a:latin typeface="Palatino Linotype"/>
              </a:rPr>
              <a:t>Hopper para 100 tarjeta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1700280"/>
            <a:ext cx="64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96e97"/>
                </a:solidFill>
                <a:latin typeface="Palatino Linotype"/>
              </a:rPr>
              <a:t>Datacard CP60 Plu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4560" y="2276640"/>
            <a:ext cx="8066160" cy="0"/>
          </a:xfrm>
          <a:prstGeom prst="line">
            <a:avLst/>
          </a:prstGeom>
          <a:ln w="38160">
            <a:solidFill>
              <a:srgbClr val="d0d5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838920" y="2494080"/>
            <a:ext cx="1771560" cy="223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79169-4854-4AAE-BBF1-8F18C0A7C4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443640" y="2274840"/>
            <a:ext cx="2193840" cy="360216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36520" y="476280"/>
            <a:ext cx="62438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ÁMARA MOTORIZA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1079640" cy="981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42920" y="193680"/>
            <a:ext cx="720720" cy="5713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24000" y="1806480"/>
            <a:ext cx="680400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6e97"/>
                </a:solidFill>
                <a:latin typeface="Palatino Linotype"/>
              </a:rPr>
              <a:t>Movimiento motorizado (189° en horizontal y 102° en vertical)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6e97"/>
                </a:solidFill>
                <a:latin typeface="Palatino Linotype"/>
              </a:rPr>
              <a:t>Tecnología óptica Carl Zeiss®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6e97"/>
                </a:solidFill>
                <a:latin typeface="Palatino Linotype"/>
              </a:rPr>
              <a:t>Sistema de enfoque automátic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6e97"/>
                </a:solidFill>
                <a:latin typeface="Palatino Linotype"/>
              </a:rPr>
              <a:t>Sensor de 2 megapíxeles (alta resolución) con tecnología RightLight™ 2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6e97"/>
                </a:solidFill>
                <a:latin typeface="Palatino Linotype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6e97"/>
                </a:solidFill>
                <a:latin typeface="Palatino Linotype"/>
              </a:rPr>
              <a:t>Profundidad de color: color verdadero de 24 bi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6e97"/>
                </a:solidFill>
                <a:latin typeface="Palatino Linotype"/>
              </a:rPr>
              <a:t>Captura de vídeo de hasta 1600 x 1200 píxeles (calidad HD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6e97"/>
                </a:solidFill>
                <a:latin typeface="Palatino Linotype"/>
              </a:rPr>
              <a:t>Captura de fotografías: 8 megapíxeles (mejora por software)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6e97"/>
                </a:solidFill>
                <a:latin typeface="Palatino Linotype"/>
              </a:rPr>
              <a:t>Hasta 30 fotogramas por segund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6e97"/>
                </a:solidFill>
                <a:latin typeface="Palatino Linotype"/>
              </a:rPr>
              <a:t>Conexión de alta velocidad USB 2.0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592280"/>
            <a:ext cx="64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96e97"/>
                </a:solidFill>
                <a:latin typeface="Palatino Linotype"/>
              </a:rPr>
              <a:t>QuickCam® Sphere AF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8920" y="2168640"/>
            <a:ext cx="8137440" cy="0"/>
          </a:xfrm>
          <a:prstGeom prst="line">
            <a:avLst/>
          </a:prstGeom>
          <a:ln w="38160">
            <a:solidFill>
              <a:srgbClr val="d0d5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DE22F-0919-4C92-B63B-42A5588FFE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36520" y="476280"/>
            <a:ext cx="66391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ECTOR/GRABADOR DE TARJETAS SIN CONTAC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1079640" cy="981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42920" y="193680"/>
            <a:ext cx="720720" cy="5713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39640" y="2012760"/>
            <a:ext cx="5761080" cy="36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596e97"/>
                </a:solidFill>
                <a:latin typeface="Palatino Linotype"/>
              </a:rPr>
              <a:t>Procesador RISC NIOS II 32 bits a 50 MHz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596e97"/>
                </a:solidFill>
                <a:latin typeface="Palatino Linotype"/>
              </a:rPr>
              <a:t>16 MB de SDRAM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596e97"/>
                </a:solidFill>
                <a:latin typeface="Palatino Linotype"/>
              </a:rPr>
              <a:t>32 MB de memoria FLASH para almacenamiento persist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596e97"/>
                </a:solidFill>
                <a:latin typeface="Palatino Linotype"/>
              </a:rPr>
              <a:t>Crypto-procesador hardware DE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596e97"/>
                </a:solidFill>
                <a:latin typeface="Palatino Linotype"/>
              </a:rPr>
              <a:t>Ethernet 10/100 Base-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596e97"/>
                </a:solidFill>
                <a:latin typeface="Palatino Linotype"/>
              </a:rPr>
              <a:t>Interfaz de RF con soporte para ISO/IEC-14443-A/B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596e97"/>
                </a:solidFill>
                <a:uFillTx/>
                <a:latin typeface="Palatino Linotype"/>
              </a:rPr>
              <a:t>Lector/grabador TSC actualmente utilizado para tratar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596e97"/>
                </a:solidFill>
                <a:uFillTx/>
                <a:latin typeface="Palatino Linotype"/>
              </a:rPr>
              <a:t>tarjetas SUBE-T del CRTM en equipos de peaje y vent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1700280"/>
            <a:ext cx="64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96e97"/>
                </a:solidFill>
                <a:latin typeface="Palatino Linotype"/>
              </a:rPr>
              <a:t>NTI-802 RMB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4560" y="2276640"/>
            <a:ext cx="8066160" cy="0"/>
          </a:xfrm>
          <a:prstGeom prst="line">
            <a:avLst/>
          </a:prstGeom>
          <a:ln w="38160">
            <a:solidFill>
              <a:srgbClr val="d0d5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480000" y="2558880"/>
            <a:ext cx="2195640" cy="1949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5ACDD-3104-4961-95FD-DF16311ECC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36520" y="476280"/>
            <a:ext cx="62438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PANTALLA TÁCTI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1079640" cy="981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42920" y="193680"/>
            <a:ext cx="720720" cy="5713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539640" y="2439000"/>
            <a:ext cx="5761080" cy="22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596e97"/>
                </a:solidFill>
                <a:latin typeface="Palatino Linotype"/>
              </a:rPr>
              <a:t>Pantalla LCD táctil de 17’’ formato 4: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596e97"/>
                </a:solidFill>
                <a:latin typeface="Palatino Linotype"/>
              </a:rPr>
              <a:t>Resolución de 1280 x 1024 píxele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596e97"/>
                </a:solidFill>
                <a:latin typeface="Palatino Linotype"/>
              </a:rPr>
              <a:t>Brillo de 300 cd/m2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596e97"/>
                </a:solidFill>
                <a:latin typeface="Palatino Linotype"/>
              </a:rPr>
              <a:t>Ratio de contraste 800: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596e97"/>
                </a:solidFill>
                <a:latin typeface="Palatino Linotype"/>
              </a:rPr>
              <a:t>Tiempo de respuesta de 5 m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596e97"/>
                </a:solidFill>
                <a:latin typeface="Palatino Linotype"/>
              </a:rPr>
              <a:t>Ángulo Visión (170°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596e97"/>
                </a:solidFill>
                <a:latin typeface="Palatino Linotype"/>
              </a:rPr>
              <a:t>16,7 millones de colore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5280" y="1700280"/>
            <a:ext cx="64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96e97"/>
                </a:solidFill>
                <a:latin typeface="Palatino Linotype"/>
              </a:rPr>
              <a:t>L1730SF-SV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74560" y="2276640"/>
            <a:ext cx="8066160" cy="0"/>
          </a:xfrm>
          <a:prstGeom prst="line">
            <a:avLst/>
          </a:prstGeom>
          <a:ln w="38160">
            <a:solidFill>
              <a:srgbClr val="d0d5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6480000" y="2457360"/>
            <a:ext cx="2060640" cy="244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A8069-2AEA-4677-8864-7BAC517B47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36520" y="476280"/>
            <a:ext cx="62438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1079640" cy="981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42920" y="193680"/>
            <a:ext cx="720720" cy="5713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39640" y="1863360"/>
            <a:ext cx="6193080" cy="42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6e97"/>
                </a:solidFill>
                <a:latin typeface="Palatino Linotype"/>
              </a:rPr>
              <a:t>PC de sobreme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6e97"/>
                </a:solidFill>
                <a:latin typeface="Palatino Linotype"/>
              </a:rPr>
              <a:t>Intel Core 2 Quad Q9400 (2,66GHz, 1333MHz, 6MB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6e97"/>
                </a:solidFill>
                <a:latin typeface="Palatino Linotype"/>
              </a:rPr>
              <a:t>Memoria RAM de 3072MB (3x1024) 800MHz DDR2 Dual Chann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6e97"/>
                </a:solidFill>
                <a:latin typeface="Palatino Linotype"/>
              </a:rPr>
              <a:t>Disco duro de 500GB SATA II (7200RPM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6e97"/>
                </a:solidFill>
                <a:latin typeface="Palatino Linotype"/>
              </a:rPr>
              <a:t>Tarjeta gráfica con dos salidas de víde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6e97"/>
                </a:solidFill>
                <a:latin typeface="Palatino Linotype"/>
              </a:rPr>
              <a:t>Tecnología VP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6e97"/>
                </a:solidFill>
                <a:latin typeface="Palatino Linotype"/>
              </a:rPr>
              <a:t>Ratón DELL Láser USB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6e97"/>
                </a:solidFill>
                <a:latin typeface="Palatino Linotype"/>
              </a:rPr>
              <a:t>Teclado DELL Quietkey USB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6e97"/>
                </a:solidFill>
                <a:latin typeface="Palatino Linotype"/>
              </a:rPr>
              <a:t>Windows XP SP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1700280"/>
            <a:ext cx="64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96e97"/>
                </a:solidFill>
                <a:latin typeface="Palatino Linotype"/>
              </a:rPr>
              <a:t>OptiPlex 960 M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4560" y="2276640"/>
            <a:ext cx="8066160" cy="0"/>
          </a:xfrm>
          <a:prstGeom prst="line">
            <a:avLst/>
          </a:prstGeom>
          <a:ln w="38160">
            <a:solidFill>
              <a:srgbClr val="d0d5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6948360" y="2565360"/>
            <a:ext cx="1663920" cy="237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E5A9B-A1C3-4221-83A9-315EF26CF6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-57240" y="-46080"/>
            <a:ext cx="9258480" cy="696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590920" y="2514600"/>
            <a:ext cx="3962160" cy="16527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466520" y="3705120"/>
            <a:ext cx="2667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596e97"/>
                </a:solidFill>
                <a:latin typeface="Arial Narrow"/>
              </a:rPr>
              <a:t>El valor de la anticipación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97400" y="5018040"/>
            <a:ext cx="428004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 Narrow"/>
              </a:rPr>
              <a:t>Carlos D. Ramos Hierrezuel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Transporte Terrestre / Transporte y Tráfic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aaaaa"/>
                </a:solidFill>
                <a:latin typeface="Arial Narrow"/>
              </a:rPr>
              <a:t>cdramos@indra.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29B0F-91D1-478A-9D68-F3C8963D3F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10:02:44Z</dcterms:created>
  <dc:creator>-</dc:creator>
  <dc:description/>
  <dc:language>en-US</dc:language>
  <cp:lastModifiedBy>Carlos David Ramos Hierrezuelo</cp:lastModifiedBy>
  <dcterms:modified xsi:type="dcterms:W3CDTF">2010-03-25T00:34:06Z</dcterms:modified>
  <cp:revision>229</cp:revision>
  <dc:subject/>
  <dc:title>Presentación de PowerPoint</dc:title>
</cp:coreProperties>
</file>